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23500"/>
</p:presentation>
</file>

<file path=ppt/commentAuthors.xml><?xml version="1.0" encoding="utf-8"?>
<p:cmAuthorLst xmlns:p="http://schemas.openxmlformats.org/presentationml/2006/main">
  <p:cmAuthor id="0" name="kenzo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4-05T08:47:57.825000000" idx="1">
    <p:pos x="10" y="10"/>
    <p:text>DOUGHNUTS: Detector Of Under-Ground Hideous Neutrinos from Universe and from Terrestrial Source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E304-EEE4-4B4D-9C74-9EAF2CE3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0A31-0DB1-43B3-BA2A-EE4595A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5DFA-F111-4A84-BD45-E583C3EA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EDDC-BB8F-4AC7-8B32-1F0C2ABC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13CD-2BAB-4200-8FA6-1B6B8E30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C779-9518-4A2A-8D5A-A47AB282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279F-050C-49E8-8317-E65045AF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7396-FF5B-4D66-AC54-DB039D88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6170-186A-4728-81F9-4E0C077F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4F39-5FF4-46A8-8F2F-AC900A0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B206-50F2-4559-BBAE-4B09C86A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12C1-EFD5-48AD-B524-0BD3FF4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07460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41444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175356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7B77-2F10-4424-AA5B-B0EA97994C99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816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1066680"/>
            <a:ext cx="7619760" cy="0"/>
          </a:xfrm>
          <a:prstGeom prst="line">
            <a:avLst/>
          </a:prstGeom>
          <a:ln w="127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verview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Hyper-Kamiokande R&amp;D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4343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nzo NAKAMURA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K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pril 7-9, 20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NN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ussois, Savoie, Fran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CD9D-06DE-4651-886B-CFD41F3959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ton Water Cherenkov Detector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a Mton water Cherenkov detector dates back to 1992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. Koshiba: “DOUGHNUTS”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ys. Rep. 220 (1992) 229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Hyper-Kamiokande was first presented at NNN99 @ SUNY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 recent write-up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K. N., Int. J. Mod. Phys. A18 (2003) 4053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3BE4-3B25-4066-AA27-9904A018E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is Hyper-Kamiokande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05920" cy="584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413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ton water Cherenkov detector at Kami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6711-BFE8-453D-AC2F-19D766336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y this design has been chosen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ater depth &lt; 5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(If the present 20-inch PMT or similar one will be used.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inear dimensions for light path &lt; 1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timization of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ck stabil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void sharp edges. Spherical shape is the best.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unnel-shaped cav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ngle Cavity or Twin Cavities?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ingle Cavit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r>
              <a:rPr b="0" lang="ja-JP" sz="17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is bett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Cost is low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Larger area of stable rock mass needed. 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win Caviti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Two detectors are independent. One detector is alive when the other is calibrated or maintained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Both cavities should be excavated at the same time. But staging scenario is possible for the later phase of the detector construction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win cavit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1729-5C68-4F7B-AF25-469BF96175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of the detecto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447920"/>
            <a:ext cx="8308800" cy="5725080"/>
            <a:chOff x="380880" y="1447920"/>
            <a:chExt cx="8308800" cy="5725080"/>
          </a:xfrm>
        </p:grpSpPr>
        <p:sp>
          <p:nvSpPr>
            <p:cNvPr id="54" name=""/>
            <p:cNvSpPr/>
            <p:nvPr/>
          </p:nvSpPr>
          <p:spPr>
            <a:xfrm>
              <a:off x="2280960" y="3895920"/>
              <a:ext cx="640872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Fiducial volume: 39mφ×45m ×5 sections ×2 = 0.54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Inner detector volume: 43mφ×49m ×5 sections ×2 = 0.72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detector volume: 1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number of PMTs: 200,000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　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(if 2/m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GSｺﾞｼｯｸE"/>
                  <a:ea typeface="HGSｺﾞｼｯｸE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80880" y="1447920"/>
              <a:ext cx="8101080" cy="3447720"/>
              <a:chOff x="380880" y="1447920"/>
              <a:chExt cx="8101080" cy="3447720"/>
            </a:xfrm>
          </p:grpSpPr>
          <p:sp>
            <p:nvSpPr>
              <p:cNvPr id="56" name=""/>
              <p:cNvSpPr/>
              <p:nvPr/>
            </p:nvSpPr>
            <p:spPr>
              <a:xfrm>
                <a:off x="599760" y="1592280"/>
                <a:ext cx="93528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8484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9248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88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85600" y="144792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5600" y="375300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324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560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0196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9432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7468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468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6704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6704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9400" y="159228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9400" y="360864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976040" y="3590640"/>
                <a:ext cx="360360" cy="50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442520" y="3743280"/>
                <a:ext cx="86364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14300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  <a:ea typeface="HGSｺﾞｼｯｸE"/>
              </a:rPr>
              <a:t>Fiducial /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7229-1B0B-499D-85FB-A387055F39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554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ison of 3 Generations o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mioka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leo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c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perimen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　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amiokande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uper-Kamiokande       Hyper-Kamiokand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ss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,000 t                    50,000 t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,000,000 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(+1,500 t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hotosensitive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 %             40 % (SK-I and -III)                   ?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verage                                               20 % (SK-II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83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96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?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tarted 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st (Oku-Yen)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  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00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500?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ja-JP" sz="18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ku-Ye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1M$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arget cost; No realistic estimate ye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81BA-8D2A-48C6-94AC-CEDDA05F9C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Construction Time Line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6840" y="1424160"/>
          <a:ext cx="8810640" cy="4895640"/>
        </p:xfrm>
        <a:graphic>
          <a:graphicData uri="http://schemas.openxmlformats.org/drawingml/2006/table">
            <a:tbl>
              <a:tblPr/>
              <a:tblGrid>
                <a:gridCol w="844560"/>
                <a:gridCol w="530280"/>
                <a:gridCol w="531720"/>
                <a:gridCol w="530280"/>
                <a:gridCol w="531720"/>
                <a:gridCol w="530280"/>
                <a:gridCol w="531720"/>
                <a:gridCol w="532080"/>
                <a:gridCol w="529920"/>
                <a:gridCol w="532080"/>
                <a:gridCol w="529920"/>
                <a:gridCol w="532080"/>
                <a:gridCol w="530280"/>
                <a:gridCol w="531720"/>
                <a:gridCol w="530280"/>
                <a:gridCol w="5317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9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042920" y="24922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11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2K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852640"/>
            <a:ext cx="576360" cy="12240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076640"/>
            <a:ext cx="5329080" cy="216000"/>
          </a:xfrm>
          <a:prstGeom prst="rightArrow">
            <a:avLst>
              <a:gd name="adj1" fmla="val 50000"/>
              <a:gd name="adj2" fmla="val 61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29264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724280"/>
            <a:ext cx="611280" cy="505080"/>
          </a:xfrm>
          <a:prstGeom prst="rightArrow">
            <a:avLst>
              <a:gd name="adj1" fmla="val 50000"/>
              <a:gd name="adj2" fmla="val 30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5300640"/>
            <a:ext cx="24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and T2K-II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A2B5-D76A-4EEC-84A8-9F7B87079D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2K long baseline neutrino oscillation experiment: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nd phase, CP viol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f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measurement in the 1st phase gives only an upper limit, the 2nd phase will enhance the reach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ton dec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νK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nd other mod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utrino oscillation measurements with atmospheric neutrinos: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sgn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, sub-dominant osc., CP phase</a:t>
            </a:r>
            <a:r>
              <a:rPr b="0" lang="ja-JP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asurements of low-energy neutrino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ernova neutrino (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x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neutrinos for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 SN at the center of the galaxy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lic supernova neutrino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lar neutrino measurem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SzPct val="1097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ossible at the Hyper-K site (600-700 m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verburden) ? Under study.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can be done with Hyper-K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97360"/>
            <a:ext cx="4249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Reach:</a:t>
            </a:r>
            <a:r>
              <a:rPr b="1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(e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yr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HGPｺﾞｼｯｸE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K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34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yr</a:t>
            </a:r>
            <a:r>
              <a:rPr b="0" lang="en-US" sz="1800" spc="-1" strike="noStrike">
                <a:solidFill>
                  <a:srgbClr val="339933"/>
                </a:solidFill>
                <a:latin typeface="HGPｺﾞｼｯｸE"/>
                <a:ea typeface="HGPｺﾞｼｯｸE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476360" cy="360360"/>
          </a:xfrm>
          <a:prstGeom prst="wedgeRectCallout">
            <a:avLst>
              <a:gd name="adj1" fmla="val -80861"/>
              <a:gd name="adj2" fmla="val 2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1484280"/>
            <a:ext cx="1476360" cy="432000"/>
          </a:xfrm>
          <a:prstGeom prst="wedgeRectCallout">
            <a:avLst>
              <a:gd name="adj1" fmla="val -66453"/>
              <a:gd name="adj2" fmla="val -2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7280" y="3860640"/>
            <a:ext cx="936720" cy="432000"/>
          </a:xfrm>
          <a:prstGeom prst="wedgeRectCallout">
            <a:avLst>
              <a:gd name="adj1" fmla="val -83050"/>
              <a:gd name="adj2" fmla="val -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j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40360" y="4653000"/>
            <a:ext cx="3203640" cy="1728720"/>
            <a:chOff x="5940360" y="4653000"/>
            <a:chExt cx="3203640" cy="1728720"/>
          </a:xfrm>
        </p:grpSpPr>
        <p:sp>
          <p:nvSpPr>
            <p:cNvPr id="93" name=""/>
            <p:cNvSpPr/>
            <p:nvPr/>
          </p:nvSpPr>
          <p:spPr>
            <a:xfrm>
              <a:off x="5940360" y="4653000"/>
              <a:ext cx="503280" cy="172872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5084640"/>
              <a:ext cx="2700360" cy="86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kahata’s stud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ton water Cherenko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tectors in ger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8800" y="1181160"/>
            <a:ext cx="9172800" cy="6087240"/>
            <a:chOff x="-28800" y="1181160"/>
            <a:chExt cx="9172800" cy="608724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2060640" y="1181160"/>
              <a:ext cx="50958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82160" y="1360440"/>
              <a:ext cx="3658680" cy="64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beam of ~1Ge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62640" y="248616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Kami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995560"/>
              <a:ext cx="16488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1360" y="3033720"/>
              <a:ext cx="16524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2480" y="3235320"/>
              <a:ext cx="1175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J-PA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5635800"/>
              <a:ext cx="3759120" cy="16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Comic Sans MS"/>
                </a:rPr>
                <a:t>disappear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C 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" y="4111560"/>
              <a:ext cx="2057400" cy="119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Comic Sans MS"/>
                </a:rPr>
                <a:t>~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Mt “Hyper Kamiokand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9360" y="3502080"/>
              <a:ext cx="762120" cy="60948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645000"/>
              <a:ext cx="3492360" cy="45972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  <a:ea typeface="ＭＳ Ｐ明朝"/>
                </a:rPr>
                <a:t>0.75</a:t>
              </a: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4149720"/>
              <a:ext cx="884160" cy="43992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4581360"/>
              <a:ext cx="28767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360" y="5945040"/>
              <a:ext cx="2419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280" y="525924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8920" y="556416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d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28800" y="2492280"/>
              <a:ext cx="2908800" cy="82548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Super-K: 50 k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Water Cherenkov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44FD-C0B3-48EE-9CF0-D6C3C2545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tatus of Hyper-K Planning and R&amp;D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099200" cy="62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te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chibora mine has been selected.  Overburden 600 – 7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vity design and excavation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in cavities preferred; FEA in progress; Geological survey and boring core studies made with existing data;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in sit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easurement of initial rock stress yet to be done; direct exploration boring and geo-survey tunneling at the candidate site needed, etc.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 tank and PMT support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nceptual design started, but progress is slow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herical HPD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-inch prototype tested, 13-inch prototype test in progress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listic cost estimation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Yet to be done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udy trade-off between physics capabilities and photocoverage (i.e., cost):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Partly done for p</a:t>
            </a:r>
            <a:r>
              <a:rPr b="0" lang="ja-JP" sz="2000" spc="-1" strike="noStrike">
                <a:solidFill>
                  <a:srgbClr val="0000cc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but many more studies needed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32720" y="1413000"/>
            <a:ext cx="2232000" cy="2303280"/>
            <a:chOff x="6732720" y="1413000"/>
            <a:chExt cx="2232000" cy="2303280"/>
          </a:xfrm>
        </p:grpSpPr>
        <p:sp>
          <p:nvSpPr>
            <p:cNvPr id="115" name=""/>
            <p:cNvSpPr/>
            <p:nvPr/>
          </p:nvSpPr>
          <p:spPr>
            <a:xfrm>
              <a:off x="6732720" y="1413000"/>
              <a:ext cx="360360" cy="2303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9760 h 2303280"/>
                <a:gd name="textAreaBottom" fmla="*/ 224352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14"/>
                  </a:lnTo>
                  <a:cubicBezTo>
                    <a:pt x="10800" y="9614"/>
                    <a:pt x="16200" y="10514"/>
                    <a:pt x="21600" y="10514"/>
                  </a:cubicBezTo>
                  <a:cubicBezTo>
                    <a:pt x="16200" y="10514"/>
                    <a:pt x="10800" y="11414"/>
                    <a:pt x="10800" y="123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2276640"/>
              <a:ext cx="1800360" cy="50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kaga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308720" y="4653000"/>
            <a:ext cx="1513080" cy="503280"/>
          </a:xfrm>
          <a:prstGeom prst="wedgeRectCallout">
            <a:avLst>
              <a:gd name="adj1" fmla="val -81268"/>
              <a:gd name="adj2" fmla="val -18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734080"/>
            <a:ext cx="1513080" cy="503280"/>
          </a:xfrm>
          <a:prstGeom prst="wedgeRectCallout">
            <a:avLst>
              <a:gd name="adj1" fmla="val -76652"/>
              <a:gd name="adj2" fmla="val 31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40680" y="0"/>
            <a:ext cx="9183960" cy="6858000"/>
            <a:chOff x="-40680" y="0"/>
            <a:chExt cx="9183960" cy="68580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44326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-40680" y="0"/>
              <a:ext cx="9183960" cy="6858000"/>
              <a:chOff x="-40680" y="0"/>
              <a:chExt cx="9183960" cy="68580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47000" y="0"/>
                <a:ext cx="4796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40680" y="237960"/>
                <a:ext cx="3506040" cy="1191240"/>
              </a:xfrm>
              <a:prstGeom prst="rect">
                <a:avLst/>
              </a:pr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Kamioka Mi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Geological Ma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61640" y="1905120"/>
                <a:ext cx="5699880" cy="947160"/>
                <a:chOff x="161640" y="1905120"/>
                <a:chExt cx="5699880" cy="94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1640" y="1905120"/>
                  <a:ext cx="260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OZUMI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60160" y="1905120"/>
                  <a:ext cx="35013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30120" y="3733920"/>
                <a:ext cx="5834880" cy="1523880"/>
                <a:chOff x="330120" y="3733920"/>
                <a:chExt cx="5834880" cy="1523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30120" y="3733920"/>
                  <a:ext cx="29552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TOCHIBORA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33800" y="4495680"/>
                  <a:ext cx="3031200" cy="762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7134-F135-4CD2-A2E0-6B6925240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8:58:05Z</dcterms:created>
  <dc:creator>中村健蔵</dc:creator>
  <dc:description/>
  <dc:language>en-US</dc:language>
  <cp:lastModifiedBy>kenzo</cp:lastModifiedBy>
  <cp:lastPrinted>2002-10-09T11:12:41Z</cp:lastPrinted>
  <dcterms:modified xsi:type="dcterms:W3CDTF">2005-04-07T12:59:02Z</dcterms:modified>
  <cp:revision>114</cp:revision>
  <dc:subject/>
  <dc:title>ｽﾗｲﾄﾞ ﾀｲﾄﾙなし</dc:title>
</cp:coreProperties>
</file>